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AD7-8919-4892-8F93-4B160520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76F-68AD-4B4F-8995-05279E7A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6BF-DD53-4130-BF42-B40405D6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F22-5B20-4EF2-932A-602809A5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C6F-5912-431F-8166-34564010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9A3-7DFF-4008-86D4-70A39ECC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3AA-084C-4EE9-92D9-F913FE00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40F-24F6-420F-A054-EDE97C3A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467-A37C-446D-9077-57A704F1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651-9C72-4761-9361-6F12D1A8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BAE-CF8B-479B-AD4D-FBD27FF3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F98-8102-4AE2-99A8-E922981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4A52-4779-480F-A696-2D61DDB6E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404640"/>
            <a:ext cx="7991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лица полна неожиданностей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444  img-46357-d847d2dd5c"/>
          <p:cNvPicPr/>
          <p:nvPr/>
        </p:nvPicPr>
        <p:blipFill>
          <a:blip r:embed="rId3"/>
          <a:stretch/>
        </p:blipFill>
        <p:spPr>
          <a:xfrm>
            <a:off x="1403280" y="1413000"/>
            <a:ext cx="6553440" cy="48034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43" name="Rectangle 7"/>
          <p:cNvSpPr/>
          <p:nvPr/>
        </p:nvSpPr>
        <p:spPr>
          <a:xfrm>
            <a:off x="755640" y="6276960"/>
            <a:ext cx="776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«История создания светофо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кция этого светофора была выполнена в виде циферблата часов, разделенного на секторы зеленого, желтого и красного цветов. Переключение между цветами осуществлялось с помощью стре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ак у часо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Москва  006t71d4"/>
          <p:cNvPicPr/>
          <p:nvPr/>
        </p:nvPicPr>
        <p:blipFill>
          <a:blip r:embed="rId1"/>
          <a:stretch/>
        </p:blipFill>
        <p:spPr>
          <a:xfrm>
            <a:off x="682560" y="1633680"/>
            <a:ext cx="3672000" cy="46018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5" name="WordArt 8"/>
          <p:cNvSpPr txBox="1"/>
          <p:nvPr/>
        </p:nvSpPr>
        <p:spPr>
          <a:xfrm>
            <a:off x="1187280" y="620640"/>
            <a:ext cx="684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Московский светофор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30 - е годы светофор все более совершенствуется, в его конструкцию вносят новые элементы. Постепенно внешний облик светофора приобретает сегодняшний вид, но вверху располагается зеленый сигнал, а внизу – крас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олько в 1949 г. было введено единое размещение огней светофора: красный – вверху, зеленый – вниз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88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августа во всем мире празднуется День светоф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11 году этому устройству, без которого сложно представить себе современный город, исполнится 143 го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0001kkpq"/>
          <p:cNvPicPr/>
          <p:nvPr/>
        </p:nvPicPr>
        <p:blipFill>
          <a:blip r:embed="rId1"/>
          <a:stretch/>
        </p:blipFill>
        <p:spPr>
          <a:xfrm>
            <a:off x="539640" y="1484280"/>
            <a:ext cx="3943440" cy="51134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9" name="WordArt 9"/>
          <p:cNvSpPr txBox="1"/>
          <p:nvPr/>
        </p:nvSpPr>
        <p:spPr>
          <a:xfrm>
            <a:off x="1258920" y="260280"/>
            <a:ext cx="6842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Памятник светофору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в Новосибирске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3280" y="476280"/>
            <a:ext cx="4176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ь и ночь нес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зор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дороги светофор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цветами своих гла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беды спасает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куратно, не спеши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есемся, не бежим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ждав совсе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н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идем через дорогу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9   svetofor"/>
          <p:cNvPicPr/>
          <p:nvPr/>
        </p:nvPicPr>
        <p:blipFill>
          <a:blip r:embed="rId1"/>
          <a:stretch/>
        </p:blipFill>
        <p:spPr>
          <a:xfrm>
            <a:off x="539640" y="404640"/>
            <a:ext cx="3938760" cy="45262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72" name="WordArt 9"/>
          <p:cNvSpPr txBox="1"/>
          <p:nvPr/>
        </p:nvSpPr>
        <p:spPr>
          <a:xfrm>
            <a:off x="900000" y="5373720"/>
            <a:ext cx="73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Берегите себя и своих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близких!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932360" y="691920"/>
            <a:ext cx="4038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 как во второй половине XIX века наряду с конными экипажами на дорогах городов появились первые автомобили, возник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обходимость упорядочивания движ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ранспортных средств — слишком уж различными были их скорость и мобиль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320x240"/>
          <p:cNvPicPr/>
          <p:nvPr/>
        </p:nvPicPr>
        <p:blipFill>
          <a:blip r:embed="rId1"/>
          <a:stretch/>
        </p:blipFill>
        <p:spPr>
          <a:xfrm>
            <a:off x="250920" y="1700280"/>
            <a:ext cx="5040360" cy="3672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офо́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т русск. свет и греч. φορός — «несущий») — устройство оптической сигнализации, предназначенное для регулирования движения людей, велосипедов, автомобилей и иных участников дорожного движения, поездов железной дороги и метрополитена, речных и морских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684360" y="620640"/>
            <a:ext cx="80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История создания светофора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00" y="1700280"/>
            <a:ext cx="40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были массивные и не слишком удобные сооружения, управлявшиеся специально приставленными к ним полицейск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нем полицейские регулировали движение, поднимая и опуская крыло семаф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мное время суток полицейские включали сигнальный фонарь. Стекла у фонаря были цветными: зеленый сигнал, разрешающий движение, красный – запрещающ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первый dbc486bf687d"/>
          <p:cNvPicPr/>
          <p:nvPr/>
        </p:nvPicPr>
        <p:blipFill>
          <a:blip r:embed="rId1"/>
          <a:stretch/>
        </p:blipFill>
        <p:spPr>
          <a:xfrm>
            <a:off x="395280" y="1773360"/>
            <a:ext cx="4032360" cy="4572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0" name="Rectangle 12"/>
          <p:cNvSpPr/>
          <p:nvPr/>
        </p:nvSpPr>
        <p:spPr>
          <a:xfrm>
            <a:off x="684360" y="259200"/>
            <a:ext cx="76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й первый автоматический светофор семафорного типа был установлен в Лондоне на площади перед Парламентом 10 декабря 1868 года инженером-механиком Дж. П. Найт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2 января 1869 года произошла трагедия — один из светофоров взорвался, когда приставленный к нему полицейский пытался его повернуть. Полицейский получил серьезные травмы, и э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я регулирования движения была реализована впоследствии только через 40 лет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10 году  в Чикаго Эрнстом Сиррином  была разработана и запатентована перва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матическая система светофора без участия человека. В его устройстве использовались надписи «STOP» и «Proceed» без подс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патент 006t6f87"/>
          <p:cNvPicPr/>
          <p:nvPr/>
        </p:nvPicPr>
        <p:blipFill>
          <a:blip r:embed="rId1"/>
          <a:stretch/>
        </p:blipFill>
        <p:spPr>
          <a:xfrm>
            <a:off x="1038240" y="2060640"/>
            <a:ext cx="7373880" cy="45259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1640" y="1844640"/>
            <a:ext cx="424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14 году в Америке появился первый светофор, который работал при помощи электроэнергии и сигналы подавал электрическими лампочками. Электрический светофор все еще имел два цвета – красный и зеле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овал сигналами светофора регулировщик, который вместо желтого сигнала подавал предупреждающий звуковой сигн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Йорк 006t5ke0"/>
          <p:cNvPicPr/>
          <p:nvPr/>
        </p:nvPicPr>
        <p:blipFill>
          <a:blip r:embed="rId1"/>
          <a:stretch/>
        </p:blipFill>
        <p:spPr>
          <a:xfrm>
            <a:off x="684360" y="1557360"/>
            <a:ext cx="3765240" cy="49975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6" name="WordArt 8"/>
          <p:cNvSpPr txBox="1"/>
          <p:nvPr/>
        </p:nvSpPr>
        <p:spPr>
          <a:xfrm>
            <a:off x="695160" y="260280"/>
            <a:ext cx="7621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Первый электрический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светофор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2920" y="1341360"/>
            <a:ext cx="4100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920 году трехцветные светофоры с использованием жёлтого сигнала были установлены в Детройте и Нью – Йорке.  Авторами изобретений были соответственно Уильям Поттс  и Джон  Харри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пер трехцв b1382"/>
          <p:cNvPicPr/>
          <p:nvPr/>
        </p:nvPicPr>
        <p:blipFill>
          <a:blip r:embed="rId1"/>
          <a:stretch/>
        </p:blipFill>
        <p:spPr>
          <a:xfrm>
            <a:off x="1116000" y="1125360"/>
            <a:ext cx="3311640" cy="5257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9" name="WordArt 10"/>
          <p:cNvSpPr txBox="1"/>
          <p:nvPr/>
        </p:nvSpPr>
        <p:spPr>
          <a:xfrm>
            <a:off x="1476360" y="404640"/>
            <a:ext cx="662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Трёхцветные светофоры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468360" y="1965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ССР первый светофор установ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 января 1930 года в Ленингра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ересечении Невского и Литейного проспек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Москва  006t71d4"/>
          <p:cNvPicPr/>
          <p:nvPr/>
        </p:nvPicPr>
        <p:blipFill>
          <a:blip r:embed="rId1"/>
          <a:stretch/>
        </p:blipFill>
        <p:spPr>
          <a:xfrm>
            <a:off x="395280" y="1844640"/>
            <a:ext cx="6045120" cy="45259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2" name="Rectangle 11"/>
          <p:cNvSpPr/>
          <p:nvPr/>
        </p:nvSpPr>
        <p:spPr>
          <a:xfrm>
            <a:off x="6588000" y="2201040"/>
            <a:ext cx="237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светофор в Москве появ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 декабря того же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глу улиц Петровка и Кузнецкий мос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7:36:30Z</dcterms:created>
  <dc:creator>Хруцкая Т.В.</dc:creator>
  <dc:description/>
  <dc:language>en-US</dc:language>
  <cp:lastModifiedBy>ната</cp:lastModifiedBy>
  <dcterms:modified xsi:type="dcterms:W3CDTF">2015-04-07T17:53:41Z</dcterms:modified>
  <cp:revision>35</cp:revision>
  <dc:subject/>
  <dc:title>История создания светофора</dc:title>
</cp:coreProperties>
</file>